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F547-1C91-4C1D-B6FC-9859B6A3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7F66-7441-4C85-A2A3-D5D115C8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E25D-7431-48F6-8A3D-C87081931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3A4B-01FB-4CAD-87B1-CC290EFE7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882A-87BF-481B-BF6B-40328EEB5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DA4B-BD4D-457A-AE32-21D4E64B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8142-5F10-4034-82EF-DE225F15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2B6D-597F-4F3D-989F-3E6B3438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E6BA-1904-40CA-8747-0ECC1E78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6C10-917B-43B8-8CD8-D5A2A915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1C81-7DDA-4414-83C3-5AE808BF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A679-FF29-426C-84DB-FF69597B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D33F-DB3D-43EA-9CE5-4695220A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83A1-B2D4-4501-ADCC-2D3A9869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4942-C665-4550-A0AF-B698583F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9233-83F3-41DE-903A-5CE463158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DF19-D2F0-4179-BB5C-E68CDDB3E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833E-627E-497B-AC40-18D029C0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BD11-EB87-4425-92C9-8AFDFB93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0BB2-5F8C-4270-9331-1ABC6D9B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8DB6-2218-4484-9CD8-89ADDF41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A79F-E498-45B7-AD4C-3BB7F4D0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B214-53E9-4935-8014-65EE241C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28D5-7FAD-419C-AF75-DC27A3E6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600200" y="6552720"/>
            <a:ext cx="5867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6169-CB76-4041-99B7-2A5CCC36E85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880" cy="8380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76212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7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8966-36DE-42A1-99F6-3301115EFB8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uropean Microlight Championship 2006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Paramotor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34290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hozas de Abajo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airfield, León, S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19-26 august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5486400"/>
            <a:ext cx="1828800" cy="1131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8571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eteorology in augu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800760" cy="2708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6858000" cy="2697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19051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6483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0324-1BA3-44CF-A926-3F6C20E1FB1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ir Masters 2004, Le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371600" y="4000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486400" y="40384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1C38-E2D2-4D2E-9604-72D9D0F0D15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52480" y="13716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0C31-031D-438E-9938-D9ED1D15891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offici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vent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José Luis Rold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mpetition Director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Manuel R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puty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Francisco Setié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ternational Jury (pend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tewards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Wolfgang Lintl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Carlos Tri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oni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Richard Meredith-H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76BD-0F85-4DAF-8302-217CAA7F8AF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vent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José Luis Rold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fessional photograp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pi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instr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competiton marsh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a Spanish paramotor championship, league event and the Way of Santiago in paramo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summer activities for large groups of pleople of all 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motor of air sports through talks, expositons and exhib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1387440" cy="17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395A-70F9-4463-A1B4-B28018C4D16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33720" y="457200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ompetition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anuel Rey (“Coco”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eronautical qualif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pilot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198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instructor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PL (A) licenc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crolight instructor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licence rating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mot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ilot since 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PL(A) licence ME and IR rating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248520" y="5257800"/>
            <a:ext cx="1752480" cy="1168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24280" y="167652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mpetit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anish Nationa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mpio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 medals in FAI cat I microlight compet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veral medals i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Spanish championshi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zer of several Spanish competition events: 1 national championship, 1 league event, 4 tou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772400" y="762120"/>
            <a:ext cx="90972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B14F-B38C-41A0-9F07-16DC4683573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B38A-2A83-443B-835F-841E10784DF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dates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5-26 / August / 200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ining, aircraft inspection, registration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From t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esday, 1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to friday, 18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ning Ceremony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st Competition briefing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est Flying Day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rom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nday 20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o Friday 2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osing Ceremony, Prize-giving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26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79BD-A813-44ED-8EE8-0449076B09D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600200" y="13716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E363-687C-4064-86C5-982BB57803A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s: PF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 trikes: PL1 and PL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4385-9F5A-4193-AF60-AE0D94DFCC6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26C9-7E09-45E7-B336-0A97355837C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904760" y="13716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A078-6C2E-42C9-9E9A-5A2D4CA2AEC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ntry fe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pilo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co-pilot (naviga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00 € for each Team Lea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for assistants and 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will be increased 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50 €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fte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y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incl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etition operations (setting, controlling and evaluating the task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 competition materials (maps, task descriptions, control point atlases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use of the airport and free entry to all official ev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mping place for each team with wat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lectri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ferential prices to 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2EFC-CC41-47C4-AF84-5700705140E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Insurance require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rd party insurance (not covering passengers)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50.000 € for PF1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0.000 € for PL1 and PL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 trik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ssenger insuranc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50.000 € for PL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3F50-7E97-4491-96C8-CA4386A1786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Championship Venue:</a:t>
            </a:r>
            <a:br>
              <a:rPr sz="3600"/>
            </a:br>
            <a:r>
              <a:rPr b="0" i="1" lang="es-ES" sz="3600" spc="-1" strike="noStrike">
                <a:solidFill>
                  <a:srgbClr val="ffcc66"/>
                </a:solidFill>
                <a:latin typeface="Arial"/>
              </a:rPr>
              <a:t>Chozas de Abajo</a:t>
            </a: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 airfield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319800" cy="52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65F0-EF31-4304-95DD-FB2EBA5D8C0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How to get to the championship venu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E70C-7470-4329-9305-BB5AECD82AA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781680" cy="55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8D4D-4A45-425F-8B1D-51B0066CF5F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3799-D7A0-4CB4-923E-A803BF80049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Coordinates: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 42° 30,167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W 005° 40,5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Eleva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: 895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Strip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: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18/36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8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: 09/27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3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535F-906F-43E9-B016-A6FBC758A3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09880" y="27241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0EF8-F2A0-41AE-81DA-BC31E2D2A6E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734000" cy="55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6C50-A9AD-487A-B3FB-808301B3E3D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5:12:35Z</dcterms:created>
  <dc:creator>José Luis Esteban</dc:creator>
  <dc:description/>
  <dc:language>en-US</dc:language>
  <cp:lastModifiedBy>FAI</cp:lastModifiedBy>
  <dcterms:modified xsi:type="dcterms:W3CDTF">2005-11-22T10:50:18Z</dcterms:modified>
  <cp:revision>21</cp:revision>
  <dc:subject/>
  <dc:title>Bid for WMC 2007 (Classics)</dc:title>
</cp:coreProperties>
</file>